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F08-380D-4C87-9E8D-8A61E1EA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448-37DA-4D6B-87FC-FE9ACCB8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B1F-7C3C-4C59-BD99-DC90C286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AD14-8043-42B4-90D8-3F296E73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C23-E9EA-4854-86B6-8142F628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6511-6371-42A5-8BE0-2985F044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9E59-102A-4E9B-97DC-A226DADC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EB93-1BBF-4B6C-AFD0-6BFF6B51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E305-3A4E-4D5B-8493-878F224C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C5E3-C45A-4BF0-8545-2B2EA081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28D5-8BD6-48A5-9C92-BEC7BCBD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9BB-E59C-42F4-9B9A-7894B16A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4201-EDBD-4730-A533-7200E97B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B02E-F779-41E0-AA14-E93490E6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02E0-96FE-4D30-B44B-2F0B1727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EBCC-BE6C-41B4-994D-3760A824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FACA-FF5E-4123-A129-E39AEB73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11E-1659-4D3D-BEE4-2A2F5C6F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F06-234D-4D08-B0F0-CA73FD73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4A4-0CC7-4EE6-B670-0BE7CE80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37D-580E-4566-BEF8-7E43097C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0BC-FB44-48AD-9E03-C8FDEA7A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929-8744-4D51-B192-549645D6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788-8683-4E92-B251-4E21EBF4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71C5-BE79-440C-BC54-462090E18B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EFC4-EF40-402D-B0E6-A2B6F67D9D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1200" y="1666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38360" y="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3120" y="351936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Examp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5600" y="350532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Non-examp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60948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6440" y="623880"/>
            <a:ext cx="435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405288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3962520"/>
            <a:ext cx="441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71880" y="2514600"/>
            <a:ext cx="30240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1:50:39Z</dcterms:created>
  <dc:creator>000090hs</dc:creator>
  <dc:description/>
  <dc:language>en-US</dc:language>
  <cp:lastModifiedBy>000090hs</cp:lastModifiedBy>
  <dcterms:modified xsi:type="dcterms:W3CDTF">2010-01-25T15:09:54Z</dcterms:modified>
  <cp:revision>5</cp:revision>
  <dc:subject/>
  <dc:title>Slide 1</dc:title>
</cp:coreProperties>
</file>